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BDCC6-EAD5-4F02-AA19-564E472DA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07E1-54B4-486A-BC60-CB2499D2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7031-6267-44DE-B79B-3C187A456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812E8-DCE1-401F-A352-AEAB2C035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B69B-40CF-4F50-921F-F32395C3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1CEE-240E-4C56-BAA1-A6DFCCD7F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AFD9A-64C1-4F70-AA6A-9CB7CBC3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11309-2B47-4F22-B374-9D049F32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F186-8E1D-46C4-82EB-AB97E64C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1F6F-8B27-4CA3-B3B3-1530E90E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C863-1E08-49E1-8B22-99870CA6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F87C-A4DB-40E9-B649-9255C5FF6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BD69-91E7-43A5-9FCE-79C686527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destination360.com/north-america/us/wyoming/images/s/wyoming-rocky-mountains.jpg&amp;imgrefurl=http://www.destination360.com/north-america/us/wyoming/rocky-mountains&amp;usg=__SnuQy54bspzl-sMhxkjRQADnch4=&amp;h=332&amp;w=415&amp;sz=49&amp;hl=en&amp;start=1&amp;zoom=1&amp;itbs=1&amp;tbnid=0F1LoDKk4mtKMM:&amp;tbnh=100&amp;tbnw=125&amp;prev=/images%3Fq%3Dmountains%26hl%3Den%26safe%3Dactive%26gbv%3D2%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e Grasslan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Kosta, Tyler, and Don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grasslands be found in As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imals can you find in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this land help people to make mone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humans impact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coyotes adapted to live in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precipitation do grassland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of Temperate Grassland</a:t>
            </a:r>
            <a:endParaRPr b="0" lang="en-US" sz="4400" spc="-1" strike="noStrike">
              <a:solidFill>
                <a:srgbClr val="000000"/>
              </a:solidFill>
              <a:latin typeface="Arial"/>
            </a:endParaRPr>
          </a:p>
        </p:txBody>
      </p:sp>
      <p:pic>
        <p:nvPicPr>
          <p:cNvPr id="44" name="Picture 5" descr="world_grasslands_map"/>
          <p:cNvPicPr/>
          <p:nvPr/>
        </p:nvPicPr>
        <p:blipFill>
          <a:blip r:embed="rId1"/>
          <a:stretch/>
        </p:blipFill>
        <p:spPr>
          <a:xfrm>
            <a:off x="228600" y="1800360"/>
            <a:ext cx="8610480" cy="46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logic Features</a:t>
            </a:r>
            <a:endParaRPr b="0" lang="en-US" sz="4400" spc="-1" strike="noStrike">
              <a:solidFill>
                <a:srgbClr val="000000"/>
              </a:solidFill>
              <a:latin typeface="Arial"/>
            </a:endParaRPr>
          </a:p>
        </p:txBody>
      </p:sp>
      <p:sp>
        <p:nvSpPr>
          <p:cNvPr id="46"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 is deep and d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a lot of nutrients from decaying and tal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tted roots hold the soil together and gives a food supply to for living plants.</a:t>
            </a:r>
            <a:endParaRPr b="0" lang="en-US" sz="3200" spc="-1" strike="noStrike">
              <a:solidFill>
                <a:srgbClr val="000000"/>
              </a:solidFill>
              <a:latin typeface="Arial"/>
            </a:endParaRPr>
          </a:p>
        </p:txBody>
      </p:sp>
      <p:pic>
        <p:nvPicPr>
          <p:cNvPr id="47" name="" descr="">
            <a:hlinkClick r:id="rId1"/>
          </p:cNvPr>
          <p:cNvPicPr/>
          <p:nvPr/>
        </p:nvPicPr>
        <p:blipFill>
          <a:blip r:embed="rId2"/>
          <a:stretch/>
        </p:blipFill>
        <p:spPr>
          <a:xfrm>
            <a:off x="1066680" y="4343400"/>
            <a:ext cx="670572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ipitation usually happens during late spring and temperate grasslands usually get 20-35 inches worth of 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mperature can be very wide in range. In the summer it can be over 100 degrees Fahrenheit and in the winter it can be usually under -40 degrees Fahrenh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MC900324226[1]"/>
          <p:cNvPicPr/>
          <p:nvPr/>
        </p:nvPicPr>
        <p:blipFill>
          <a:blip r:embed="rId1"/>
          <a:stretch/>
        </p:blipFill>
        <p:spPr>
          <a:xfrm>
            <a:off x="-152280" y="-12600"/>
            <a:ext cx="9296280" cy="70228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la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s- Starchy grain used in ce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ye- A species of grass that grows in tuf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at- A species of grass that is used for human and animal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a:t>
            </a:r>
            <a:r>
              <a:rPr b="0" lang="en-US" sz="4400" spc="-1" strike="noStrike">
                <a:solidFill>
                  <a:srgbClr val="ffffff"/>
                </a:solidFill>
                <a:latin typeface="Arial"/>
              </a:rPr>
              <a:t> </a:t>
            </a:r>
            <a:r>
              <a:rPr b="0" lang="en-US" sz="4400" spc="-1" strike="noStrike">
                <a:solidFill>
                  <a:srgbClr val="000000"/>
                </a:solidFill>
                <a:latin typeface="Arial"/>
              </a:rPr>
              <a:t>anim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 Hawks, skunks, Jack Rabbits, Prairie dogs, and De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 are birds that prey on small anim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 are animals that look like wolves that prey on small animal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733920" y="3971880"/>
            <a:ext cx="5410080" cy="28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6094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aptations of Organisms</a:t>
            </a:r>
            <a:endParaRPr b="0" lang="en-US" sz="4400" spc="-1" strike="noStrike">
              <a:solidFill>
                <a:srgbClr val="000000"/>
              </a:solidFill>
              <a:latin typeface="Arial"/>
            </a:endParaRPr>
          </a:p>
        </p:txBody>
      </p:sp>
      <p:sp>
        <p:nvSpPr>
          <p:cNvPr id="59" name="PlaceHolder 2"/>
          <p:cNvSpPr>
            <a:spLocks noGrp="1"/>
          </p:cNvSpPr>
          <p:nvPr>
            <p:ph/>
          </p:nvPr>
        </p:nvSpPr>
        <p:spPr>
          <a:xfrm>
            <a:off x="609480" y="14479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yotes have sharp teeth and claws to hunt animals and get foo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wks have very good eyesight to see small animals from high in the ai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on have horns for protection from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emperate Grassland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have impacted this biome by creating most of the areas that are grasslands into farm land. Also the cows that eat away at the grass is not that good. Also the chemical that is spray can kill some organisms and also can sprea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one about the survival of the grassland? What can be done is that the government can put limitations on the amount of grassland we use and develop farm land out of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our biome is used for</a:t>
            </a:r>
            <a:endParaRPr b="0" lang="en-US" sz="4400" spc="-1" strike="noStrike">
              <a:solidFill>
                <a:srgbClr val="000000"/>
              </a:solidFill>
              <a:latin typeface="Arial"/>
            </a:endParaRPr>
          </a:p>
        </p:txBody>
      </p:sp>
      <p:sp>
        <p:nvSpPr>
          <p:cNvPr id="64"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erding sheep</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unting and fishing</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atching wildlif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Owning land for livestock</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a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2:19:08Z</dcterms:created>
  <dc:creator>xpstudent</dc:creator>
  <dc:description/>
  <dc:language>en-US</dc:language>
  <cp:lastModifiedBy>xpstudent</cp:lastModifiedBy>
  <dcterms:modified xsi:type="dcterms:W3CDTF">2010-10-28T12:16:30Z</dcterms:modified>
  <cp:revision>11</cp:revision>
  <dc:subject/>
  <dc:title>Slide 1</dc:title>
</cp:coreProperties>
</file>